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03D-11D0-4AEE-AE85-E126060C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CF46-336B-47AF-B5C7-991951B7E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FDF9-F88B-41F1-8F4A-9EC399EC6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05BC-1467-4864-9C86-C6F54255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2B85-DBEA-48D3-A54A-D8CB29E88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52F0-737D-488D-A202-72007886E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1CE2-3486-415E-BF39-9C7E2033A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57EE-A183-4AC8-B1DA-BE2B4E97A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8FC4-56D4-455A-8CF4-23515C742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9EB9-99F0-4D72-BD0F-4C7EF4F23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940D-7EAB-4A6C-AD97-FBFAF5DB4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5C44-C032-494B-8E0B-DBBED3CDD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ACDA-8CA3-4EE1-A761-0BECD138D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E76C-CACB-4F51-9FEA-61313762F1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BB25-35A7-48BA-87F5-E0111CB28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4ABD-6A05-4DDE-9AF4-8929D7362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C3C5-9815-47C0-8DC3-A7B379E2B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72BA-377E-4A8A-BBA0-6F1278F87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4-10-15T20:19:16Z</dcterms:modified>
  <cp:revision>68</cp:revision>
  <dc:subject/>
  <dc:title>Preview of Coming Attractions</dc:title>
</cp:coreProperties>
</file>