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E8A74-48C8-475A-8BB1-5062D4795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3BFCA-ED84-44C0-96E3-3940ED292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36228-42D7-414E-9DBD-986EF85DB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6FA29-06D5-4B72-ABF8-8DD3D7511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429EE-9461-4C82-995A-733CFD3D5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2E0E4-6ADA-45A8-B483-D3E96CFB1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76FD5-270A-4F88-B02C-50962F25C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DD3C8-F674-40E5-87B4-799974E50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2C672-4976-44AF-ADF9-B96638C11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A2FE5-C30B-447E-B24E-436DBA8D0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DEDAF-2EEC-4A55-A17D-3EC324745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6AEBA-3131-465F-A624-2CBE32AC2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21C1-1E72-44F2-BF33-2F43A4BB29B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8640" y="3171600"/>
            <a:ext cx="553716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Geometric Event Find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04880" y="1679400"/>
            <a:ext cx="7772400" cy="43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state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a program that determines when a point target is visible, as seen from a surface point on an extended bod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e that a second extended body may occult the targ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for the possibility that the body on which the surface point is located may occult the targ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rete appl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in the time interv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4 May 1 TD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4 May 5 TD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when the Mars Express orbiter is visible from the DSN station DSS-14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for possible occultation by the earth or by Ma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 a SPICE window representing the visibility perio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241360" y="380520"/>
            <a:ext cx="6237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Geometric Event Finding:  Overview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ime Conversion and Forma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2BDE4-B007-48B6-A40F-6BC6D2535AE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656160" y="3691080"/>
            <a:ext cx="984240" cy="38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457440" y="380520"/>
            <a:ext cx="38037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sibility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5480" y="3301920"/>
            <a:ext cx="3276720" cy="3133800"/>
          </a:xfrm>
          <a:prstGeom prst="ellipse">
            <a:avLst/>
          </a:prstGeom>
          <a:gradFill rotWithShape="0">
            <a:gsLst>
              <a:gs pos="0">
                <a:srgbClr val="021c6a"/>
              </a:gs>
              <a:gs pos="100000">
                <a:srgbClr val="063de8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72080" y="2808360"/>
            <a:ext cx="1501920" cy="1434960"/>
          </a:xfrm>
          <a:prstGeom prst="ellipse">
            <a:avLst/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685960" y="2628720"/>
            <a:ext cx="609840" cy="1089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619000" y="3746520"/>
            <a:ext cx="65160" cy="8874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728800" y="3338280"/>
            <a:ext cx="3248280" cy="38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053120" y="3141720"/>
            <a:ext cx="838440" cy="95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736720" y="2126880"/>
            <a:ext cx="4573800" cy="159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415600">
            <a:off x="2521440" y="3348360"/>
            <a:ext cx="109800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31920" y="2803680"/>
            <a:ext cx="17715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s vector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ocentric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22880" y="4316400"/>
            <a:ext cx="755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44840" y="5956200"/>
            <a:ext cx="920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94520" y="2908440"/>
            <a:ext cx="1162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5000"/>
          </a:bodyPr>
          <a:p>
            <a:pPr marL="156960" indent="-156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960" indent="-156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cul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07120" y="1550880"/>
            <a:ext cx="1530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4000" y="3724200"/>
            <a:ext cx="1272960" cy="528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545800">
            <a:off x="2383920" y="3233160"/>
            <a:ext cx="1266840" cy="11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64" y="4777"/>
                </a:moveTo>
                <a:arcTo wR="10800" hR="10800" stAng="-2033859" swAng="2033859"/>
                <a:lnTo>
                  <a:pt x="10800" y="10800"/>
                </a:lnTo>
                <a:close/>
              </a:path>
              <a:path fill="none" w="21600" h="21600">
                <a:moveTo>
                  <a:pt x="19764" y="4777"/>
                </a:moveTo>
                <a:arcTo wR="10800" hR="10800" stAng="-2033859" swAng="2033859"/>
              </a:path>
            </a:pathLst>
          </a:custGeom>
          <a:noFill/>
          <a:ln w="57240">
            <a:solidFill>
              <a:srgbClr val="e915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02200" y="4511520"/>
            <a:ext cx="984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39760" indent="-239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632040" y="4266720"/>
            <a:ext cx="425520" cy="451080"/>
          </a:xfrm>
          <a:prstGeom prst="line">
            <a:avLst/>
          </a:prstGeom>
          <a:ln w="57240">
            <a:solidFill>
              <a:srgbClr val="e915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911800">
            <a:off x="2651400" y="3538080"/>
            <a:ext cx="6883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4287000">
            <a:off x="1503720" y="2509200"/>
            <a:ext cx="2574360" cy="892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64" y="4777"/>
                </a:moveTo>
                <a:arcTo wR="10800" hR="10800" stAng="-2033859" swAng="2033859"/>
                <a:lnTo>
                  <a:pt x="10800" y="10800"/>
                </a:lnTo>
                <a:close/>
              </a:path>
              <a:path fill="none" w="21600" h="21600">
                <a:moveTo>
                  <a:pt x="19764" y="4777"/>
                </a:moveTo>
                <a:arcTo wR="10800" hR="10800" stAng="-2033859" swAng="2033859"/>
              </a:path>
            </a:pathLst>
          </a:custGeom>
          <a:noFill/>
          <a:ln w="57240">
            <a:solidFill>
              <a:srgbClr val="e915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49600" y="3622680"/>
            <a:ext cx="9205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SS-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6840" y="3727440"/>
            <a:ext cx="4510080" cy="167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27760" y="5425920"/>
            <a:ext cx="28764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:  not occulted, b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ow elevation lim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visi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ime Conversion and Forma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0EBC8-AF6C-4334-80E0-87AC7A742FA5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dcterms:modified xsi:type="dcterms:W3CDTF">2004-10-14T23:36:25Z</dcterms:modified>
  <cp:revision>89</cp:revision>
  <dc:subject/>
  <dc:title>Time Conversion and Formats</dc:title>
</cp:coreProperties>
</file>