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4116-22E4-48EB-BCED-730B95DD6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E50D-BEEC-4EF8-9AF1-0100B8AE1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31D4-EE30-4463-99D0-4437A17C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8EA4-5F40-43A7-AFFD-65CA2A78D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DDCF-F742-42DA-BD6D-3BDBD7039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AA05-1D86-4DA5-9BE1-F7B215472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C58E-E767-4D5B-A539-5D0E81CE7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D20C-0A78-4404-B849-7F34C63F6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AC50-41F7-4B77-9A77-2C3B83200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4D48-DF37-4CD6-A71A-A1C2F3DCB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B958-BDA1-49BA-8423-450F5B0AA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610A-BF16-4A81-9040-8D2B6AEF1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581C-CA45-46C6-ABFF-C35DB52622A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04880" y="167940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a program that determines when a point target is visible, as seen from a surface point on an extended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that a second extended body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the possibility that the body on which the surface point is located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rete appl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1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5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Mars Express orbiter is visible from the DSN station DSS-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by the earth or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3D98-8E76-470E-9ADA-F6F52CBBF5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330192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21c6a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19000" y="3746520"/>
            <a:ext cx="65160" cy="8874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415600">
            <a:off x="2521440" y="3348360"/>
            <a:ext cx="10980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1920" y="2803680"/>
            <a:ext cx="17715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4000" y="3724200"/>
            <a:ext cx="1272960" cy="528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545800">
            <a:off x="2383920" y="3233160"/>
            <a:ext cx="1266840" cy="11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15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32040" y="4266720"/>
            <a:ext cx="425520" cy="451080"/>
          </a:xfrm>
          <a:prstGeom prst="line">
            <a:avLst/>
          </a:prstGeom>
          <a:ln w="57240">
            <a:solidFill>
              <a:srgbClr val="e915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911800">
            <a:off x="2651400" y="3538080"/>
            <a:ext cx="6883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287000">
            <a:off x="1503720" y="2509200"/>
            <a:ext cx="2574360" cy="89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15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49600" y="3622680"/>
            <a:ext cx="920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SS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  not occulted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4747-EE31-4D09-8F0C-D515CC68BC6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dcterms:modified xsi:type="dcterms:W3CDTF">2004-10-14T23:36:25Z</dcterms:modified>
  <cp:revision>89</cp:revision>
  <dc:subject/>
  <dc:title>Time Conversion and Formats</dc:title>
</cp:coreProperties>
</file>